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6DB-FD3D-40C7-B1B7-1EF81FDE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998-EE34-40B9-B533-9951F3F0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C8D-9925-4025-95E2-EF60BB20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273-7C8C-40D9-9216-EE8679FC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29DC-CED5-49F3-9ACA-A58F450C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A8F-8402-47BF-85BA-A27FAD41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5190-59ED-417C-A21F-98A5D993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0CDD-42EE-4D13-B279-B625A9BD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EA1E-A978-4B15-8DEA-3B50F72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8FDB-0361-47AB-9208-872295E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A0F-648D-40EA-B123-1BFAF338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998-6FFD-422D-8A0C-378621E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F9B-C826-4436-A52D-5FA44939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E55-E600-41E5-9956-F713EE4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7AB2-FBE6-45D5-92F1-F51C6C12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7DFA-A573-4398-8E68-FEC32B11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759D-E217-45BE-82DD-F4665DA2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DD3-2973-49AC-BA31-1DB65DE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740-F7C0-4255-845D-887E9B60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B17-A642-4E91-82FE-39080F9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5F6-9488-4E35-B689-D308635A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212-A173-4F49-ACCF-C0ACD151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C72-9E9B-4F19-91BD-2A36719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326-F5B6-4649-8512-C935936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880-3EF5-4A29-9C74-8B1203F572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354D-92D9-449E-9E2B-074FEE1EB9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Windows and File Managemen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oncept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ing Folders &amp; Fil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folders to organize all of your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files &amp; folders must have a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easy to remember &amp; have it relate to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ena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can have up to 255 charact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have 3-letter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tension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type of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doc for MS Word document; .xls for MS Excel; .ppt for MS Power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ing Folders &amp; Fil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ing fold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ile, New, Fo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ke A New Fol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ink in File &amp; Folders Task P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. Click in Window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New, Fo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nam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t. Click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leting folders/fi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. Click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eted Folders also delete any files inside of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deleted folders/files go to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ycle B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Recycle Bin is emptied; it is permanently g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want to restore file from RB, you c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pying &amp; Moving Fil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file to be cop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tin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ocation where the copied or moved file will re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ing a fi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lows you to create a duplicate of it in a different location. Original version stays in original lo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ving a fi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lows you to move a file/folder from its original location to a new lo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xpanding &amp; Collapsing Drives &amp; Folde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indows Explorer,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ders P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plays the folders on your computer in a hierarc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 P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plays the contents of the disk or folder selected in the Folders P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76720" cy="3395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0" y="6095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c1302"/>
                </a:solidFill>
                <a:latin typeface="Arial"/>
              </a:rPr>
              <a:t>Folders Pane, Contents Pane, 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etting Help &amp; Support in Window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provides you with online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also provides The Help &amp; Support feature to assist you with troubleshooting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ce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t, Help &amp;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t, Control Panel, Help (Menu Bar), Help &amp;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s, folders, &amp; disks are your key system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provides 2 tools for browsing, accessing and managing these resources: My Computer &amp; Windows Explo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le Manage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e Managem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rocess of organizing and keeping track of your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ation of tools:  files, folders, &amp; d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e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include a wide range of ob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instructions for the computer to operate (executable files or program fi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a text document you read (document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ain an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le Manage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der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 container used to store &amp; organize your fi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stored on a disk &amp; can also have subf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k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 files, folders, &amp; subfolders are sto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clude floppy disks, hard disks, CDs, DVDs, Zip disks, PC Cards, and mobile storage devices (USB flash drives, memory cards or stic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GUI for Windows XP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turn your computer on, a symbolic desktop is displayed. Icons represent folders, files, programs &amp; other objec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aphical User Interface allows you to click icons to execute com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Windows Desktop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429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skb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Displays all current “tasks” being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Button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access to My Computer &amp; other programs/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y Computer Windo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start My Computer from the Start Menu on the Taskb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y Computer Window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ains 2 document folders: Shared Documents &amp; a User Fol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Document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available to other users on the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r Folde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r personal folder on the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y Computer Windo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Computer Window has 2 types of icons:  Disk drive icons &amp; Folder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k drive icon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dentify drives available on your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86200" y="3408480"/>
            <a:ext cx="4667400" cy="344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809880"/>
            <a:ext cx="243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y Computer Windo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er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range in Group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llows you to group files by detail, name, size, type, or date mod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umbnai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les/folders displayed as a small image with name undern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les/folders displayed as a large i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on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layed as a small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lays the contents of folder as a list with a very small icon to the left of th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ntains all information related to the file (name, type, size, date modifi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lmstrip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ctures appear in a single row of thumbnail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3:15:39Z</dcterms:created>
  <dc:creator>LDSD</dc:creator>
  <dc:description/>
  <dc:language>en-US</dc:language>
  <cp:lastModifiedBy>LDSD</cp:lastModifiedBy>
  <dcterms:modified xsi:type="dcterms:W3CDTF">2010-03-01T05:30:11Z</dcterms:modified>
  <cp:revision>14</cp:revision>
  <dc:subject/>
  <dc:title>Windows and File Management</dc:title>
</cp:coreProperties>
</file>